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2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7C0-CA8D-43E6-9352-6F68C698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BF1-9FDF-46B0-B0CF-764159C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AF0-F5BD-4A24-8871-26AA674E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4BE-4A09-4D60-BAC1-11AD55D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E3F-1D36-431F-9B5F-3742D0AC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8808-BD5E-4919-985F-31C6F97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60EB-54E7-438B-A55E-A7E471C7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7F15-1EF3-4382-B7C8-EBAFA946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D411-EB48-49E7-A7A0-DDA6789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F87A-F2FA-484F-91DE-F90AB88C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FD73-A696-4362-A18D-8E26294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80D-506D-46EF-9B83-CBFDBD11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8485-9821-4FD9-8D9B-5EA6BD6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4731-7D9B-4B58-AF54-0F9EB98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8501-924E-4ACC-9E1B-7B87EE7A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6462-F681-4B79-9774-79BCB7B9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2964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5760" y="106632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2964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5760" y="3792240"/>
            <a:ext cx="266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5467-2D02-422E-A657-05568D26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692-AAC1-4833-A205-08FA603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630-4127-47E7-B912-EDF0F8F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680-187B-4B33-AFA3-A572DA91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360" y="152280"/>
            <a:ext cx="77929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8C8-78DE-458F-A599-4F7B3C4D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509-7F24-4996-96A0-218E2E6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1080" y="379224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77F-B6B9-440C-9FDC-380BD83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1066320"/>
            <a:ext cx="40352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692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55D-6B17-4AB1-B9E9-BF59AA8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400"/>
            <a:ext cx="8556480" cy="1052280"/>
            <a:chOff x="0" y="14400"/>
            <a:chExt cx="8556480" cy="1052280"/>
          </a:xfrm>
        </p:grpSpPr>
        <p:sp>
          <p:nvSpPr>
            <p:cNvPr id="1" name=""/>
            <p:cNvSpPr/>
            <p:nvPr/>
          </p:nvSpPr>
          <p:spPr>
            <a:xfrm>
              <a:off x="673200" y="1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4080" y="5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14400"/>
              <a:ext cx="8556480" cy="1052280"/>
              <a:chOff x="0" y="14400"/>
              <a:chExt cx="8556480" cy="105228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12240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360" y="54468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471600"/>
                <a:ext cx="56016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5040" y="1440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0120" y="776160"/>
                <a:ext cx="8226360" cy="32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2692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A2ED-56B8-4C2D-806A-A11DA833B2E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E273B20-6E1F-453B-BAAB-7F7B8DAD1DC7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7:11</a:t>
            </a:fld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420-97D7-4D9D-8218-9E082B7B49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3152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aettenschweiler"/>
              </a:rPr>
              <a:t>CHAPTER  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CA77-C482-4AEE-BBA1-B5170DFBB1FE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581CE73F-1036-464A-A0C3-FCCC4786CF7A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7:1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7610-F126-469D-913C-27374595CA2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2971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离散数学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screte Mathematic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53A-92C5-493F-841C-64C14036BE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E9D3-D677-4DBC-8E2C-BF3A39C2D5C4}" type="datetime8">
              <a:rPr lang="en-US"/>
              <a:t>07/31/26 17:1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9280" y="941400"/>
            <a:ext cx="8381880" cy="1496160"/>
            <a:chOff x="179280" y="941400"/>
            <a:chExt cx="8381880" cy="1496160"/>
          </a:xfrm>
        </p:grpSpPr>
        <p:sp>
          <p:nvSpPr>
            <p:cNvPr id="242" name=""/>
            <p:cNvSpPr/>
            <p:nvPr/>
          </p:nvSpPr>
          <p:spPr>
            <a:xfrm>
              <a:off x="179280" y="941400"/>
              <a:ext cx="83818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例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5.2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证明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 (A(x)∨B(x))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 A(x)∨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 B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 (A(x)∧B(x))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 A(x)∧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 B 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209400" y="1592280"/>
              <a:ext cx="152280" cy="2286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138120" y="2097360"/>
              <a:ext cx="152640" cy="2286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24000" y="2421000"/>
            <a:ext cx="882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我们来证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A(x)∨B(x)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A(x)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B(x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永真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32925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此，取解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个体域为自然数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(x):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奇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(x):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偶数。并分别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4292640"/>
            <a:ext cx="302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F(x)∨G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6000" y="4292640"/>
            <a:ext cx="309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F(x)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4724280"/>
            <a:ext cx="367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该公式存在成假解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213520"/>
            <a:ext cx="882000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可类似证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例说明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”对“∨”无分配律，“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”对“∧”无分配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724280"/>
            <a:ext cx="25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永真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4292640"/>
            <a:ext cx="180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真命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20000" y="4292640"/>
            <a:ext cx="187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假命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40B-A0DE-4760-BBEA-D8579303196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512EE-5EDC-4CC3-A186-F657C2A1B189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06280" y="98100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个体域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={a, b, c}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下列公式中的量词消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F(x)→G(x));  (2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 F(x) 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G(y));  (3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280" y="2421000"/>
            <a:ext cx="28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F(x)→G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28526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F(x)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G(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242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(a)→G(a))∧(F(b)→G(b))∧(F(c)→G(c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4221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32878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F(x)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G(y)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8200" y="4653000"/>
            <a:ext cx="7850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(F(x,a)∧F(x,b)∧F(x,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(a,a)∧F(a,b)∧F(a,c))∨(F(b,a)∧F(b,b)∧F(b,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(c,a)∧F(c,b)∧F(c,c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3691080"/>
            <a:ext cx="65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(a)∧F(b)∧F(c))∨(G(a)∨G(b)∨G(c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F88-FCCB-4102-A481-FB406F1E92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5C9F-FF2E-437F-863C-3537E2819BF0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779400"/>
            <a:ext cx="7753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体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= {2,3}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特定元素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特定函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2)=3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(3)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特定谓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(x,y): G(2,2)=G(2,3)=G(3,2)=1, G(3,3)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(x,y): L(2,2)= L(3,3)=1, L(2,3)= L(3,2) 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(2)=0, F(3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求下列各式的真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F(x)∧G(x,a))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89360" y="136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08680" y="136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99040" y="136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3575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43280" y="3575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250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37280" y="3041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91360" y="3041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79640" y="3041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17960" y="250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08680" y="250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3960" y="250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27240" y="250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30416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280" y="3041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3575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56440" y="90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64120" y="189000"/>
            <a:ext cx="25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给定解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51069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设公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5495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59245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∧1)∧(1∧1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8000" y="54928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(2)∧G(2,2))∧(F(3)∧G(3,2)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59A-90CC-44C3-976C-824C5FB2F92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776C1-E586-462D-B4C6-39A843A6C2D0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8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42920" y="173052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设以上公式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B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F(f(2))∧G(2,f(2)))∨(F(f(3))∧G(3,f(3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F(3)∧G(2,3))∨(F(2)∧G(3,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∧1)∨(0∧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779400"/>
            <a:ext cx="7753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(F(f(x)∧G(x,f(x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L(x,y);              (4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L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04760" y="428148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L(2, 2) ∨L(2,3))∧(L(3,2)∨L(3,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∨0)∧(0∨1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L(2,2) ∧ L(2,3))∨(L(3,2)∧L(3,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∧0)∨(0∧1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72A-97A8-49D5-A4FD-6684F4D0DA0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C435C-5CE8-4686-8FCB-58510AD4C471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8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8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8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8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776760"/>
            <a:ext cx="432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(1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M(x) ∧F(x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┐(M(x) ∧F(x)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┐M(x) ∨┐F(x)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M(x) → ┐F(x)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981000"/>
            <a:ext cx="81532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下列等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M(x) ∧F(x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M(x) →┐F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F(x)→G(x))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F(x)∧┐G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(F(x)∧G(y)→H(x,y)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(F(x)∧G(y)∧┐H(x,y))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8360" y="4324320"/>
            <a:ext cx="401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词否定等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德摩根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蕴含等值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236-AA34-45C1-BD49-3EDFCDBAA14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B732C-1C74-4496-841F-B9330421DD54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5" dur="8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6" dur="8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2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9" dur="8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8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052640"/>
            <a:ext cx="597528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(F(x)→G(x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┐(F(x)→G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┐(┐F(x)∨G(x))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(F(x)∧┐G(x))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(F(x)∧G(y)→H(x,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┐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(┐(F(x)∧G(y))∨H(x,y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┐(┐(F(x)∧G(y))∨H(x,y)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((F(x)∧G(y))∧┐H(x,y))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1628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词否定等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置换规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置换规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9080" y="4076640"/>
            <a:ext cx="446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词否定等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词否定等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德摩根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817-03BF-46A7-9E5A-3FC84B121A6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FAB18-64AB-4A6B-B437-EEAEE9D10639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8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7" dur="8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8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2" dur="8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8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50920" y="2852640"/>
            <a:ext cx="864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一阶逻辑公式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束范式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≤k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含量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公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79600" y="17928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.2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阶逻辑的前束范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371628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：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(F(x)∧G(y)→H(x,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z(F(x)∧G(y)∧H(x)→L(x,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501336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(F(x)→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(G(y)∧H(x,y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(F(x)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(G(y)→H(x,y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04000" y="4267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前束范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08120" y="5516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是前束范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8640" y="47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907920"/>
            <a:ext cx="86421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命题逻辑中，析取范式和合取范式是公式的两种不同的等值形式，在一阶逻辑中公式也有范式形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.2</a:t>
            </a:r>
            <a:r>
              <a:rPr b="0" lang="zh-CN" sz="2400" spc="-1" strike="noStrike">
                <a:solidFill>
                  <a:srgbClr val="ff9966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具有如下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Q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CD7-DFBF-42DA-9ABB-9BA12641A57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34952-61B6-4424-85E2-1BD0F689E6A6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6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3" dur="8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4" dur="8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998640"/>
            <a:ext cx="856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谓词逻辑中的任何公式都存在与之等值的前束范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证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虽然任何公式都有前束范式，但一般来说，一个公式的前束范式并不唯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前束范式的求法：利用上节所述的三条等值演算规则和基本等值式（上节所列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5.2)~~(5.5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公式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D75-A285-4F49-BDD4-DCB4BC3FFDF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B418F-398D-475A-B13D-8CA8472857F7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1" dur="8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2" dur="8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3" dur="8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8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9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0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4000" y="981000"/>
            <a:ext cx="67690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.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求下列公式的前束范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)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∧ ┐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;         (2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∨┐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1711440"/>
            <a:ext cx="360036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解：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1)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F(x)∧┐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G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∧┐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 G(y)      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∧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 ┐G(y)     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x(F(x)∧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 ┐G(y))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　　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 (F(x)∧┐G(y))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　　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或 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F(x)∧┐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G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　    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F(x)∧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┐G(x)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　     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　    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(F(x)∧┐G(x))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　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2)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F(x)∨┐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G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F(x)∨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┐G(x)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 F(x)∨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y ┐G(y)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y(F(x)∨G(y))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06920" y="2133720"/>
            <a:ext cx="352908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量词否定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(5.2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量词辖域扩张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(5.3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量词辖域扩张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(5.3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量词否定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5.2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　量词分配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5.5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量词否定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5.2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(5.3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2800" y="60213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注：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只对∧有分配律，对∨无分配律；</a:t>
            </a:r>
            <a:r>
              <a:rPr b="1" lang="zh-CN" sz="18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只对∨有分配律，对∧无分配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607-98D3-4BC0-B700-5E3A6F3314E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BF326-DECF-46BD-90EC-0EB3AE518F3E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8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8" dur="8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8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1" dur="8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8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3" dur="8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4" dur="8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5" dur="8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5" dur="8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8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8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8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8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60948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40464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.7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求下列各式的前束范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∧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;         (2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3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1700280"/>
            <a:ext cx="3816360" cy="69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解：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F(x)∧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G(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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F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)∧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G(x)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(F(y)∧G(x)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2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F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G(x)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y(F(y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G(x)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(F(y)→G(x))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3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 G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F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G(x)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y (F(y)→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G(x))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y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 (F(y)→G(x))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133720"/>
            <a:ext cx="396072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5.3-2)(5.4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5.3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5.4-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5.4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5.3-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042-3856-4B57-A1A5-035579D5377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98ADE-F7FB-42CC-A5CA-B86A97ACE45A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0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5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7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8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9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8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7" dur="8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8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8" dur="8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9" dur="8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8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1" dur="8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8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2" dur="8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3" dur="8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4" dur="8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9" dur="8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0" dur="8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1" dur="8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3" dur="8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3" dur="8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4" dur="8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5" dur="8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0792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五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阶逻辑等值演算与推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0560" y="3573360"/>
            <a:ext cx="4610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.1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阶逻辑等值式与置换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0560" y="4076640"/>
            <a:ext cx="367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阶逻辑的前束范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653000"/>
            <a:ext cx="41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阶逻辑的推理理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71628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50A-27E3-4E3E-8469-4351C2A054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71850-F3E7-4407-978F-4D9A9F49C0EB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66680" y="260280"/>
            <a:ext cx="60264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5.8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求下列各公式的前束范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1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,y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y G(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2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F(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,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G(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H(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,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,x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  <a:ea typeface="宋体"/>
              </a:rPr>
              <a:t>3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2503440"/>
            <a:ext cx="4321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解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: (1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F(x,y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y G(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F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,y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G(x,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t (F(t,y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w G(x,w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w (F(t,y)→G(x,w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或：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F(x,y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y G(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F(x,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y G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(F(x,t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y G(w,y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y (F(x,t)→G(w,y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76720" y="2503440"/>
            <a:ext cx="35989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5.3-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5.4-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代替规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5.3-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5.4-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7120" y="1924560"/>
            <a:ext cx="86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思路：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要注意哪些个体变项是约束出现，哪些是自由出现。而且在求范式时，要保证它们约束和自由出现的身份与次数都不能改变，并且不能混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6E4-202F-475B-AF03-5ADF0ABC0B4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9F25C-D67B-4D17-9D6A-4BF064072C95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3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4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5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6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7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2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3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4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4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5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6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6" dur="8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7" dur="8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8" dur="8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1197000"/>
            <a:ext cx="6431040" cy="41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2) (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F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G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H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F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G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H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F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G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H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F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→G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H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(F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→G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H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(F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→G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→H(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x</a:t>
            </a:r>
            <a:r>
              <a:rPr b="1" lang="zh-CN" sz="2400" spc="-1" strike="noStrike" baseline="-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1422360"/>
            <a:ext cx="27939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换名规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量词辖域扩张等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DE3-E901-41A0-BF17-F2FE48F079D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D6A45-9440-4C8D-BEAD-FBE9977CC4DA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7" dur="8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9" dur="8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9" dur="8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0" dur="8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1" dur="8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1" dur="8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2" dur="8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3" dur="8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3" dur="8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4" dur="8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5" dur="8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5" dur="8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6" dur="8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7" dur="8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981000"/>
            <a:ext cx="853452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一、谓词逻辑推理的形式结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从前提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,A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,…A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出发推结论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的推理，其形式结构为蕴含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             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∧A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∧…∧A</a:t>
            </a:r>
            <a:r>
              <a:rPr b="1" lang="zh-CN" sz="2200" spc="-1" strike="noStrike" baseline="-30000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→B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若该蕴含式为永真式，则称推理正确，否则称推理不正确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 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二、谓词逻辑推理定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第一组：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命题逻辑推理定律的代换实例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都是谓词逻辑的推理定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如：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∧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y G(y)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∨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y G(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┐┐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┐┐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F(x)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10560" y="1364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.3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阶逻辑的推理理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76C-FD0B-4AA2-B039-9DFA5364977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5C128-1C63-4721-9C55-D4DDF0F781A9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4" dur="8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5" dur="8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6" dur="8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1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8" dur="8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0" dur="8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5" dur="8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6" dur="8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7" dur="8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3" dur="8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8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4000" y="90792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第二组：由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基本等值式生成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的推理定律。每个等值式可生成两个推理定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如：由量词否定等值式  ┐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A(x)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┐A(x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生成两个定律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┐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A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┐A(x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┐A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┐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A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由量词辖域扩张等值式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(A(x)∨B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A(x)∨B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生成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(A(x)∨B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 A(x)∨B 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A(x)∨B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(A(x)∨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由量词分配等值式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(A(x)∧B(x)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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A(x)∧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B(x)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生成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(A(x)∧B(x)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A(x)∧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B(x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A(x)∧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B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(A(x)∧B(x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8640" y="6026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等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AB6-7608-4A6C-A033-3774688E049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9A032-37A7-49BC-9262-0E861D663233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1" dur="8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2" dur="8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3" dur="8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8" dur="8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9" dur="8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0" dur="8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5" dur="8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6" dur="8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8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2" dur="8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3" dur="8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4" dur="8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9" dur="8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0" dur="8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1" dur="8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6" dur="8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7" dur="8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8" dur="8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0" dur="8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5" dur="8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6" dur="8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7" dur="8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762120" y="1752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981080"/>
            <a:ext cx="8305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09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91440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第三组：其它重要推理定律。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1)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A(x)∨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B(x)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(A(x)∨B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(A(x)∧B(x))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A(x)∧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B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3)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(A(x)→B(x))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A(x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B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4) 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(A(x)→B(x))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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A(x)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 B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501-1E10-4CFD-9B02-4F0B7C3096C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E39FF-B182-4441-B004-ADB2CE37F6BA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4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5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1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2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3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8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9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7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24000" y="831960"/>
            <a:ext cx="8496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在谓词逻辑中，除了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命题逻辑中的推理规则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继续有效外，还有以下四条规则。设前提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Г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  <a:ea typeface="宋体"/>
              </a:rPr>
              <a:t>=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{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25000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25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,…,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Times New Roman"/>
                <a:ea typeface="宋体"/>
              </a:rPr>
              <a:t>k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}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1.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全称量词消去规则（记为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-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12384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三、谓词逻辑推理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4508640"/>
            <a:ext cx="8713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indent="144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例：取个体域为实数域，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F(x, y): x&gt;y, A(x)=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y F(x,y),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A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A(z)=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y F(z,y),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5360" y="5624640"/>
            <a:ext cx="1140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而不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58400" y="5638680"/>
            <a:ext cx="3724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A(x)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A(y)=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y F(y,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68360" y="3789360"/>
            <a:ext cx="539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4292640"/>
            <a:ext cx="511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57480" y="335772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其中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,y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是个体变项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符号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是个体常项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符号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87720" y="249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268360" y="2349360"/>
            <a:ext cx="1656000" cy="432000"/>
            <a:chOff x="2268360" y="2349360"/>
            <a:chExt cx="1656000" cy="432000"/>
          </a:xfrm>
        </p:grpSpPr>
        <p:sp>
          <p:nvSpPr>
            <p:cNvPr id="346" name=""/>
            <p:cNvSpPr/>
            <p:nvPr/>
          </p:nvSpPr>
          <p:spPr>
            <a:xfrm>
              <a:off x="2268360" y="234936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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56000" y="2781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268360" y="2781360"/>
            <a:ext cx="16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645080" y="2349360"/>
            <a:ext cx="1655640" cy="432000"/>
            <a:chOff x="4645080" y="2349360"/>
            <a:chExt cx="1655640" cy="432000"/>
          </a:xfrm>
        </p:grpSpPr>
        <p:sp>
          <p:nvSpPr>
            <p:cNvPr id="350" name=""/>
            <p:cNvSpPr/>
            <p:nvPr/>
          </p:nvSpPr>
          <p:spPr>
            <a:xfrm>
              <a:off x="4645080" y="234936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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2360" y="2781360"/>
              <a:ext cx="10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645080" y="278136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4000" y="3860640"/>
            <a:ext cx="58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且在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中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不在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的辖域内自由出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10D-7AA4-464B-A858-478AA2C14AB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5365A-1480-40FA-8C4B-9EC6577BFAC4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108" dur="indefinite" restart="never" nodeType="tmRoot">
          <p:childTnLst>
            <p:seq>
              <p:cTn id="2109" dur="indefinite" nodeType="mainSeq">
                <p:childTnLst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7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8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9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4" dur="8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5" dur="8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6" dur="8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8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43080" y="1201680"/>
            <a:ext cx="494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2 .</a:t>
            </a:r>
            <a:r>
              <a:rPr b="0" lang="zh-CN" sz="2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全称量词引入规则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记为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+)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12384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三、谓词逻辑推理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3286080"/>
            <a:ext cx="698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3080" y="2781360"/>
            <a:ext cx="782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其中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是个体变项符号，且不在</a:t>
            </a:r>
            <a:r>
              <a:rPr b="1" i="1" lang="zh-CN" sz="2200" spc="-1" strike="noStrike">
                <a:solidFill>
                  <a:srgbClr val="333399"/>
                </a:solidFill>
                <a:latin typeface="Tahoma"/>
                <a:ea typeface="宋体"/>
              </a:rPr>
              <a:t>Г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的任何公式中自由出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556000" y="1773360"/>
            <a:ext cx="1655640" cy="431640"/>
            <a:chOff x="2556000" y="1773360"/>
            <a:chExt cx="1655640" cy="431640"/>
          </a:xfrm>
        </p:grpSpPr>
        <p:sp>
          <p:nvSpPr>
            <p:cNvPr id="359" name=""/>
            <p:cNvSpPr/>
            <p:nvPr/>
          </p:nvSpPr>
          <p:spPr>
            <a:xfrm>
              <a:off x="2556000" y="177336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43280" y="2205000"/>
              <a:ext cx="10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556000" y="220500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3789360"/>
            <a:ext cx="42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存在量词消去规则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记为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-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61840" y="5805360"/>
            <a:ext cx="752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200" y="5300640"/>
            <a:ext cx="784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其中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是个体常项符号，且不在</a:t>
            </a:r>
            <a:r>
              <a:rPr b="1" i="1" lang="zh-CN" sz="2200" spc="-1" strike="noStrike">
                <a:solidFill>
                  <a:srgbClr val="333399"/>
                </a:solidFill>
                <a:latin typeface="Tahoma"/>
              </a:rPr>
              <a:t>Г</a:t>
            </a:r>
            <a:r>
              <a:rPr b="1" lang="zh-CN" sz="2200" spc="-1" strike="noStrike">
                <a:solidFill>
                  <a:srgbClr val="333399"/>
                </a:solidFill>
                <a:latin typeface="Tahoma"/>
              </a:rPr>
              <a:t>的任何公式和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333399"/>
                </a:solidFill>
                <a:latin typeface="Tahoma"/>
              </a:rPr>
              <a:t>中自由出现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698920" y="4221000"/>
            <a:ext cx="2087280" cy="505080"/>
            <a:chOff x="2698920" y="4221000"/>
            <a:chExt cx="2087280" cy="505080"/>
          </a:xfrm>
        </p:grpSpPr>
        <p:sp>
          <p:nvSpPr>
            <p:cNvPr id="366" name=""/>
            <p:cNvSpPr/>
            <p:nvPr/>
          </p:nvSpPr>
          <p:spPr>
            <a:xfrm>
              <a:off x="2916000" y="4221000"/>
              <a:ext cx="16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r>
                <a:rPr b="1" lang="zh-CN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98920" y="472608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627280" y="479736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727-EAD3-4070-A91A-D68D4A1BB1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17268-FB5B-4601-ADD9-1F5336CEB61B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5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6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3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3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4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5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0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1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2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981000"/>
            <a:ext cx="42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存在量词引入规则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记为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23840"/>
            <a:ext cx="54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三、谓词逻辑推理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5640" y="5084640"/>
            <a:ext cx="705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640" y="4005360"/>
            <a:ext cx="784872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其中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,y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是个体变项符号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, c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是个体常项符号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并且在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ahoma"/>
              </a:rPr>
              <a:t>中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和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分别不在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的辖域内</a:t>
            </a:r>
            <a:r>
              <a:rPr b="1" lang="zh-CN" sz="2200" spc="-1" strike="noStrike">
                <a:solidFill>
                  <a:srgbClr val="333399"/>
                </a:solidFill>
                <a:latin typeface="Tahoma"/>
              </a:rPr>
              <a:t>自由出现和出现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075280" y="1628640"/>
            <a:ext cx="2087640" cy="505080"/>
            <a:chOff x="5075280" y="1628640"/>
            <a:chExt cx="2087640" cy="505080"/>
          </a:xfrm>
        </p:grpSpPr>
        <p:sp>
          <p:nvSpPr>
            <p:cNvPr id="374" name=""/>
            <p:cNvSpPr/>
            <p:nvPr/>
          </p:nvSpPr>
          <p:spPr>
            <a:xfrm>
              <a:off x="5292720" y="162864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B </a:t>
              </a:r>
              <a:r>
                <a:rPr b="1" lang="zh-CN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y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5280" y="2133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003640" y="213372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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340000" y="1706400"/>
            <a:ext cx="1655640" cy="432000"/>
            <a:chOff x="2340000" y="1706400"/>
            <a:chExt cx="1655640" cy="432000"/>
          </a:xfrm>
        </p:grpSpPr>
        <p:sp>
          <p:nvSpPr>
            <p:cNvPr id="378" name=""/>
            <p:cNvSpPr/>
            <p:nvPr/>
          </p:nvSpPr>
          <p:spPr>
            <a:xfrm>
              <a:off x="2340000" y="170640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y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7280" y="2138400"/>
              <a:ext cx="10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340000" y="213840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03720" y="191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075280" y="2919240"/>
            <a:ext cx="2087640" cy="505080"/>
            <a:chOff x="5075280" y="2919240"/>
            <a:chExt cx="2087640" cy="505080"/>
          </a:xfrm>
        </p:grpSpPr>
        <p:sp>
          <p:nvSpPr>
            <p:cNvPr id="383" name=""/>
            <p:cNvSpPr/>
            <p:nvPr/>
          </p:nvSpPr>
          <p:spPr>
            <a:xfrm>
              <a:off x="5292720" y="291924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B </a:t>
              </a:r>
              <a:r>
                <a:rPr b="1" lang="zh-CN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5280" y="34243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003640" y="342432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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40000" y="2997360"/>
            <a:ext cx="1655640" cy="431640"/>
            <a:chOff x="2340000" y="2997360"/>
            <a:chExt cx="1655640" cy="431640"/>
          </a:xfrm>
        </p:grpSpPr>
        <p:sp>
          <p:nvSpPr>
            <p:cNvPr id="387" name=""/>
            <p:cNvSpPr/>
            <p:nvPr/>
          </p:nvSpPr>
          <p:spPr>
            <a:xfrm>
              <a:off x="2340000" y="299736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27280" y="3429000"/>
              <a:ext cx="10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340000" y="342900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03720" y="320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4508640"/>
            <a:ext cx="511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6DF-C491-4A67-B434-69C1526ED2A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1D4C8-A66B-44BC-BC93-634AF5B14966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4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5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1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2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3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8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9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0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49440" y="1089000"/>
            <a:ext cx="766764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.3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自然推理系统</a:t>
            </a:r>
            <a:r>
              <a:rPr b="1" lang="zh-CN" sz="2200" spc="-1" strike="noStrike">
                <a:solidFill>
                  <a:srgbClr val="333399"/>
                </a:solidFill>
                <a:latin typeface="Monotype Corsiva"/>
                <a:ea typeface="华文隶书"/>
              </a:rPr>
              <a:t>N</a:t>
            </a:r>
            <a:r>
              <a:rPr b="1" lang="zh-CN" sz="2200" spc="-1" strike="noStrike" baseline="-25000">
                <a:solidFill>
                  <a:srgbClr val="333399"/>
                </a:solidFill>
                <a:latin typeface="Monotype Corsiva"/>
                <a:ea typeface="华文隶书"/>
              </a:rPr>
              <a:t>L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下由如下要素构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字母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：见定义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合式公式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：见定义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推理规则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)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引入规则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2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结论引入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3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置换规则    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4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假言推理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5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附加规则    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6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化简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7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拒取式规则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8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假言三段论规则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9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析取三段论规则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0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构造性二难推理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1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合取引入规则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2)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-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3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+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规则      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4)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+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15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-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其中规则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1)~(11)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与命题逻辑中的推理规则相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165240"/>
            <a:ext cx="4935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四、自然推理系统</a:t>
            </a:r>
            <a:r>
              <a:rPr b="1" lang="zh-CN" sz="3800" spc="-1" strike="noStrike">
                <a:solidFill>
                  <a:srgbClr val="333399"/>
                </a:solidFill>
                <a:latin typeface="Monotype Corsiva"/>
                <a:ea typeface="华文隶书"/>
              </a:rPr>
              <a:t>N</a:t>
            </a:r>
            <a:r>
              <a:rPr b="1" lang="zh-CN" sz="3800" spc="-1" strike="noStrike" baseline="-25000">
                <a:solidFill>
                  <a:srgbClr val="333399"/>
                </a:solidFill>
                <a:latin typeface="Monotype Corsiva"/>
                <a:ea typeface="华文隶书"/>
              </a:rPr>
              <a:t>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C13-E7C6-4A2A-B666-F3BE2F143DE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FB828-813F-4DA3-9E22-BB946338976F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331" dur="indefinite" restart="never" nodeType="tmRoot">
          <p:childTnLst>
            <p:seq>
              <p:cTn id="2332" dur="indefinite" nodeType="mainSeq">
                <p:childTnLst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2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2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7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8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9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4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5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6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1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2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3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8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9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0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5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6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7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2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3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4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9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0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1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6" dur="8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7" dur="8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8" dur="8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3" dur="8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4" dur="8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5" dur="8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24000" y="97632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前提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P(x)→Q(x), P(x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推出结论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xQ(x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证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①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P(x)→Q(x)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引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②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P(x)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引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③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Q(x)                ① ②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假言推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④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xQ(x)           ③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58920" y="115920"/>
            <a:ext cx="54388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四、自然推理系统</a:t>
            </a:r>
            <a:r>
              <a:rPr b="1" lang="zh-CN" sz="3800" spc="-1" strike="noStrike">
                <a:solidFill>
                  <a:srgbClr val="333399"/>
                </a:solidFill>
                <a:latin typeface="Monotype Corsiva"/>
                <a:ea typeface="华文隶书"/>
              </a:rPr>
              <a:t>N</a:t>
            </a:r>
            <a:r>
              <a:rPr b="1" lang="zh-CN" sz="3800" spc="-1" strike="noStrike" baseline="-25000">
                <a:solidFill>
                  <a:srgbClr val="333399"/>
                </a:solidFill>
                <a:latin typeface="Monotype Corsiva"/>
                <a:ea typeface="华文隶书"/>
              </a:rPr>
              <a:t>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36450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解释：个体域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整数集合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(x):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偶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  Q(x):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除。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Q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真值不确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上述推理是错误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76B-BEF0-4FC5-9BCF-709488823DB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C3346-AD3D-4BC1-BCE7-4C1A1BF0FE03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6" dur="8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7" dur="8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8" dur="8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4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5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0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1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2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7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8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9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3241800"/>
            <a:ext cx="860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一、等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定义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5.1</a:t>
            </a:r>
            <a:r>
              <a:rPr b="1" lang="zh-CN" sz="2000" spc="-1" strike="noStrike">
                <a:solidFill>
                  <a:srgbClr val="ffff77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一阶逻辑中任意两个公式，若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永真式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阶逻辑等值式与置换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9435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一阶逻辑中，有些命题可以有不同的符号化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没有不犯错误的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F(x):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人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G(x):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犯错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如下两种不同的符号化形式：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7439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1),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等价于原命题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38880" y="23130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x(F(x)→G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7920" y="1879560"/>
            <a:ext cx="25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1) ┐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x(F(x)∧┐G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74392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正确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3440" y="2743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等值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465300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判断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等值，等价于判断公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为永真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4124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等值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4124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记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并称它为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等值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12748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个问题目前尚没有一般的解决方法。但是，人们已经证明了一些重要的等值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92452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利用这些等值式和推演规则，可以推演出更多的等值式。</a:t>
            </a:r>
            <a:r>
              <a:rPr b="1" lang="zh-CN" sz="2000" spc="-1" strike="noStrike">
                <a:solidFill>
                  <a:srgbClr val="ffff7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121-EE76-4500-93BF-43EAE6B819C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60581-A6C6-4630-B941-822695022A98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836640"/>
            <a:ext cx="84960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任何自然数都是整数，存在着自然数，所以存在着整数。个体域为实数集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R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解：先将原子命题符号化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设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为自然数，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为整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：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→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),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结论：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0000" y="27000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5.9</a:t>
            </a:r>
            <a:r>
              <a:rPr b="1" lang="zh-CN" sz="2300" spc="-1" strike="noStrike">
                <a:solidFill>
                  <a:srgbClr val="333399"/>
                </a:solidFill>
                <a:latin typeface="Times New Roman"/>
              </a:rPr>
              <a:t>在自然推理系统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华文隶书"/>
              </a:rPr>
              <a:t>N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Monotype Corsiva"/>
                <a:ea typeface="华文隶书"/>
              </a:rPr>
              <a:t>L</a:t>
            </a:r>
            <a:r>
              <a:rPr b="1" lang="zh-CN" sz="2300" spc="-1" strike="noStrike">
                <a:solidFill>
                  <a:srgbClr val="333399"/>
                </a:solidFill>
                <a:latin typeface="Times New Roman"/>
              </a:rPr>
              <a:t>中，构造下面推理的证明：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5640" y="3645000"/>
            <a:ext cx="35290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证明： ①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→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②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 →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③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 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④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 →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⑤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⑥ 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54560" y="3692520"/>
            <a:ext cx="334944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前提引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 ①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 ②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 ③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引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 ④ 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假言推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FF5-6EDB-43F7-A82B-4378A311F1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CFA87-5B01-4CCF-8BDD-AB086F3AD209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475" dur="indefinite" restart="never" nodeType="tmRoot">
          <p:childTnLst>
            <p:seq>
              <p:cTn id="2476" dur="indefinite" nodeType="mainSeq">
                <p:childTnLst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1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2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3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8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9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0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5" dur="8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6" dur="8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7" dur="8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2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4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5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3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8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0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0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1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2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7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2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3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4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68360" y="836640"/>
            <a:ext cx="7543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3496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：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 (F(x)→G(x)), 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(F(x)∧H(x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3496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结论：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宋体"/>
              </a:rPr>
              <a:t>x(G(x)∧H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89000" y="338040"/>
            <a:ext cx="67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5.10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在自然推理系统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华文隶书"/>
              </a:rPr>
              <a:t>N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Monotype Corsiva"/>
                <a:ea typeface="华文隶书"/>
              </a:rPr>
              <a:t>L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中，构造下面推理的证明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920" y="2214720"/>
            <a:ext cx="4032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①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(F(x)→G(x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②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F(x)→G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③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F(x)∧H(x)→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④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F(x)∧H(x)→G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⑤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F(x)∧H(x)→H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⑥ 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┐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F(x)∧H(x))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G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⑦ 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┐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F(x)∧H(x))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H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⑧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┐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F(x)∧H(x))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G(x))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SymbolPi"/>
                <a:ea typeface="宋体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┐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(F(x)∧H(x))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56000" y="2214720"/>
            <a:ext cx="3240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①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化简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③②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假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化简规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④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⑥ ⑦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合取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76720" y="1484280"/>
            <a:ext cx="38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⑨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┐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F(x)∧H(x))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G(x)∧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920" y="16178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证明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56640" y="1773360"/>
            <a:ext cx="10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⑧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67360" y="2133720"/>
            <a:ext cx="38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⑩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F(x)∧H(x)→G(x)∧H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06680" y="2492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⑨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7360" y="2852640"/>
            <a:ext cx="38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⑾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F(x)∧H(x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G(x)∧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19560" y="328464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⑩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67360" y="3645000"/>
            <a:ext cx="4076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⑿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F(x)∧H(x))→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G(x)∧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12360" y="41497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⑾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67360" y="4586400"/>
            <a:ext cx="288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⒀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F(x)∧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48800" y="4581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67360" y="508464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⒁</a:t>
            </a:r>
            <a:r>
              <a:rPr b="1" lang="zh-CN" sz="22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G(x)∧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74200" y="508464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⑿⒀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假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293-A0CE-4C3F-AE1D-FA347969A9B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BC251-2C22-4529-B82F-DD9B98F9D92C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6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7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8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7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8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9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0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1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1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3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3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4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5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5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7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7" dur="8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8" dur="8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9" dur="8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9" dur="8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0" dur="8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1" dur="8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6" dur="8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7" dur="8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8" dur="8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3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0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3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4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5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5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6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7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7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8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9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9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0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1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9640" y="981000"/>
            <a:ext cx="806472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不存在能表示出分数的无理数，有理数都能表示成分数，因此，有理数都不是无理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解：设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F(x): 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为无理数；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G(x): 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为有理数；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H(x)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能表示成分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前提：┐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(F(x)∧H(x)),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(G(x)→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结论：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(G(x)→ ┐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96760" y="2924280"/>
            <a:ext cx="446580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证明：①   ┐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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(F(x)∧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②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(┐F(x)∨┐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③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x(F(x)→┐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④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F(x)→┐H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32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⑤ 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(G(x)→H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32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⑥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G(x)→H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32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⑦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H (x)→┐F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32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⑧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G(x)→┐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32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        ⑨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x(G(x)→┐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0560" y="2924280"/>
            <a:ext cx="302580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①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置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②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③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前提引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⑤ 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④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置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⑥⑦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假言三段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宋体"/>
              </a:rPr>
              <a:t>⑧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12960" y="30780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.11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华文隶书"/>
              </a:rPr>
              <a:t>N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Monotype Corsiva"/>
                <a:ea typeface="华文隶书"/>
              </a:rPr>
              <a:t>L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中构造下面推理的证明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个体域为实数集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28D-88AA-49CF-8994-BF0EE1E48839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AE378-34B3-4D88-9CE3-C0071D98A4A4}" type="datetime8">
              <a:rPr lang="en-US"/>
              <a:t>07/31/26 17:12</a:t>
            </a:fld>
          </a:p>
        </p:txBody>
      </p:sp>
    </p:spTree>
  </p:cSld>
  <p:transition>
    <p:random/>
  </p:transition>
  <p:timing>
    <p:tnLst>
      <p:par>
        <p:cTn id="2777" dur="indefinite" restart="never" nodeType="tmRoot">
          <p:childTnLst>
            <p:seq>
              <p:cTn id="2778" dur="indefinite" nodeType="mainSeq">
                <p:childTnLst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3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8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9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0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5" dur="8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6" dur="8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7" dur="8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2" dur="8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3" dur="8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4" dur="8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9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0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1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1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2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3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4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5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6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7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7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8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9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9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0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1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1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2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3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8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9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5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5" dur="8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6" dur="8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7" dur="8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98080" y="98568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二、基本等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阶逻辑等值式与置换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200" y="1577520"/>
            <a:ext cx="837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第一组：第二章中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等值式模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代换实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是一阶逻辑的等值式。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182628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┐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6560" y="494172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消去量词等值式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44500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4941720"/>
            <a:ext cx="4824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个体域为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={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…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}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5950080"/>
            <a:ext cx="23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445000"/>
            <a:ext cx="482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∧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∧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5924520"/>
            <a:ext cx="4392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 baseline="-30000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51368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第二组：一阶逻辑特有的基本等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152800"/>
            <a:ext cx="763416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,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┐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┐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)∨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∨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∨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 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∧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0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40360" y="5588640"/>
            <a:ext cx="78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5.1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549-1CDA-4612-88FB-03B80D6D518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68C38-CF8C-4A69-AE98-0C480B873167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4292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阶逻辑等值式与置换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4560" y="14367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907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量词否定等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9334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自由出现个体变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892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14367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8921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86160" y="1556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.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34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对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7155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偶数。个体域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94856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而“所有的自然数都是偶数。”的否定“至少存在一个自然数不是偶数。”符号化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22560" y="5445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故  ┐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544500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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80440" y="5767920"/>
            <a:ext cx="49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 ┐F(x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意为“所有的自然数都不是偶数。”仍是假命题，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68360" y="6110280"/>
          <a:ext cx="309564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6110280"/>
                    <a:ext cx="3095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474920" y="238356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不是所有的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都有性质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23835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存在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没有性质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348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23835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一回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26708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：“所有的自然数都是偶数。”是假命题，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312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其否定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3356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至少存在一个自然数不是偶数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30312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是所有的自然数都是偶数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8920" y="3356640"/>
            <a:ext cx="77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3347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真命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407592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所有的自然数都是偶数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075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符号化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83280" y="4075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真值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5280" y="4075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43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其否定式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4362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真值为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2720" y="443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5083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9CD-885C-49B6-A210-53E60A9B6DB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792D8-933E-4C94-9DA1-FDE6245F324A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7640" y="939960"/>
            <a:ext cx="2879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对于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的证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92320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对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式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3861360"/>
            <a:ext cx="67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设“不存在有性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。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是真命题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360" y="1371600"/>
            <a:ext cx="28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无穷个体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6920" y="939960"/>
            <a:ext cx="6769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有限个体域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可利用削去量词等值式展开证明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8000" y="2523960"/>
            <a:ext cx="33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以，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9080" y="1371600"/>
            <a:ext cx="3022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真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73340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根据全称量词的定义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2163600"/>
            <a:ext cx="331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至少存在一个个体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25800" y="2163600"/>
            <a:ext cx="395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假，或┐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真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1371600"/>
            <a:ext cx="259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假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356640"/>
            <a:ext cx="33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不存在有性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。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335664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是一回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3566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36276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所有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都没有性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。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29336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我们看：“存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没有性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。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┐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也是真命题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2600" y="47260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是不是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472608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508860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答案是否定的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2400" y="6091920"/>
            <a:ext cx="29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┐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900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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2900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┐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444280"/>
            <a:ext cx="46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“存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没有性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”是真命题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50886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因为反过来不成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544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推不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5804640"/>
            <a:ext cx="48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有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没有性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”也是真命题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165000"/>
            <a:ext cx="14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故只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基本等值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139-A206-49C2-B825-E72E153322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F4175-8162-41B9-84ED-012D84AF11BA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985680"/>
            <a:ext cx="56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量词辖域收缩与扩张等值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159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基本等值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370160"/>
            <a:ext cx="70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含自由出现的个体变项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不含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出现，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80180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000" y="331776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46560" y="1792440"/>
            <a:ext cx="180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1819440"/>
            <a:ext cx="20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2276640"/>
            <a:ext cx="201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179244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227664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2276640"/>
            <a:ext cx="20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05440" y="2276640"/>
            <a:ext cx="21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 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32424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∨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32958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76720" y="37227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379872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34160" y="326376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∧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79872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 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722760"/>
            <a:ext cx="20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 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58640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量词分配等值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545004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5927760"/>
            <a:ext cx="33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5445000"/>
            <a:ext cx="30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95008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∨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15240" y="42249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5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4040" y="27547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5.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0960" y="5949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5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5013360"/>
            <a:ext cx="70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含自由出现的个体变项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24A-D42C-41CB-BB89-6B449846039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E1B75-DED6-4A57-9726-CE6BB788F629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14130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置换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设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含公式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公式，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是用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取代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所有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之后所得的公式。若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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171360"/>
            <a:ext cx="62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三、一阶逻辑的等值演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2135160"/>
            <a:ext cx="83818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换名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设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一公式，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某量词辖域中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一个约束变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所有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相应的指导变元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改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该量词辖域中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未曾出现过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某个体变项符号，公式中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其余部分不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所得公式记为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2200" spc="-1" strike="noStrike" baseline="30000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代替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设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为一公式，将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某自由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个体变项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所有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未曾出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过的个体变项符号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代替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其余部分不变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所得公式记为 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2200" spc="-1" strike="noStrike" baseline="30000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2200" spc="-1" strike="noStrike" baseline="30000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3EB-074A-42C8-B48D-CCB5A5AB68E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D307F-5FCD-48A7-B004-74302C9FADC4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9381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5.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将下列公式化成与之等值的公式，使其没有既是约束出现的又是自由出现的个体变项。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60956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y, z);  (2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→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 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7040" y="1989000"/>
            <a:ext cx="45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3760" y="2349360"/>
            <a:ext cx="411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936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换名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2786040"/>
            <a:ext cx="39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278604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换名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201840"/>
            <a:ext cx="504036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：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→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G 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→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(x, 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→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或：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→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 → </a:t>
            </a:r>
            <a:r>
              <a:rPr b="1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30920" y="3649680"/>
            <a:ext cx="117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替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3640" y="4081320"/>
            <a:ext cx="117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替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24360" y="595476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换名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13640" y="5018040"/>
            <a:ext cx="117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替规则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rete Math. , Chen Ch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9CD-402E-4249-853D-DFB95D48C1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B691D-B14D-43C5-80A8-B9F70CB95862}" type="datetime8">
              <a:rPr lang="en-US"/>
              <a:t>07/31/26 17:11</a:t>
            </a:fld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8:47:55Z</dcterms:created>
  <dc:creator>hlj</dc:creator>
  <dc:description/>
  <dc:language>en-US</dc:language>
  <cp:lastModifiedBy>User</cp:lastModifiedBy>
  <dcterms:modified xsi:type="dcterms:W3CDTF">2012-02-26T03:29:31Z</dcterms:modified>
  <cp:revision>324</cp:revision>
  <dc:subject/>
  <dc:title>ch5</dc:title>
</cp:coreProperties>
</file>